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B6F-4D30-42E7-B261-1EB574C3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3D1-7495-4357-81BB-F59FFCAD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968-5AA4-414A-BDB3-74D50746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4BF-2F3C-4D24-8A8E-C5F436D4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FED7-9EED-4C06-AAA8-FA29321E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12F-92B4-49E6-BBF3-9656729A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904-0D5C-434B-A164-67992E23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1E8-A66B-4884-AC51-C04BA76C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044-1490-4D0C-9753-3D173D46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067-C72D-4862-A9AF-84BA806F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F63-66FC-4B68-9F30-D2D26B21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232-4FEF-48AF-93F0-1DC35B0B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5DA8-C891-427A-B6EF-810A6C1B9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2060640"/>
            <a:ext cx="151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8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6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1840" y="1989000"/>
            <a:ext cx="1657440" cy="136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69840" y="2349360"/>
            <a:ext cx="7489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              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349360"/>
            <a:ext cx="505080" cy="57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042920" y="2997000"/>
            <a:ext cx="73080" cy="93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0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2060640"/>
            <a:ext cx="3816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8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6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24360" y="1989000"/>
            <a:ext cx="3024000" cy="136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3933720"/>
            <a:ext cx="2016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56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52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2560" y="3862440"/>
            <a:ext cx="1873440" cy="136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4221000"/>
            <a:ext cx="7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04000" y="4292640"/>
            <a:ext cx="3240000" cy="1944720"/>
          </a:xfrm>
          <a:prstGeom prst="cloudCallout">
            <a:avLst>
              <a:gd name="adj1" fmla="val -64111"/>
              <a:gd name="adj2" fmla="val 58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sy... multiply each element of the matrix by the sca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2060640"/>
            <a:ext cx="720720" cy="574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1484280"/>
            <a:ext cx="7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12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1052640"/>
            <a:ext cx="18000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mat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3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3 x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10) + (7 x 60) + (3 x 30) = 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8764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2060640"/>
            <a:ext cx="431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04000" y="206064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ula and Greg want to compare the cost of shopping at two supermar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356000" y="177336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206064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5928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40360" y="256536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35280" y="170028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32720" y="2565360"/>
            <a:ext cx="431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170028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256536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ula and Greg want to compare the cost of shopping at two supermar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4149720"/>
            <a:ext cx="5182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3) x (3 x 2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2 x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2000" y="4149720"/>
            <a:ext cx="360360" cy="57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4076640"/>
            <a:ext cx="360360" cy="57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1413000"/>
            <a:ext cx="20890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492280"/>
            <a:ext cx="1656000" cy="1657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4797360"/>
            <a:ext cx="4464000" cy="1511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of columns in the first must equal the number of rows in the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292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292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292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292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0:06:07Z</dcterms:created>
  <dc:creator>N Holden</dc:creator>
  <dc:description/>
  <dc:language>en-US</dc:language>
  <cp:lastModifiedBy>N Holden</cp:lastModifiedBy>
  <dcterms:modified xsi:type="dcterms:W3CDTF">2008-12-17T11:48:59Z</dcterms:modified>
  <cp:revision>4</cp:revision>
  <dc:subject/>
  <dc:title>L.O. Multiply matrices by scalars and other matrices</dc:title>
</cp:coreProperties>
</file>